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0" y="-228600"/>
          <a:ext cx="9450360" cy="70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8600"/>
                    <a:ext cx="945036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7269120" y="3675240"/>
            <a:ext cx="848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K. News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999840" y="5854680"/>
            <a:ext cx="1289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Mamie M. Mick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70800" y="5427720"/>
            <a:ext cx="126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Ronald S. Crand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68080" y="6037200"/>
            <a:ext cx="78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J.P. Mor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8240" y="6434280"/>
            <a:ext cx="893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K                                                                                                          2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-228600"/>
          <a:ext cx="9448920" cy="70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28600"/>
                    <a:ext cx="944892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7171920" y="3645000"/>
            <a:ext cx="11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52480" y="5884920"/>
            <a:ext cx="992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John C. 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72320" y="5427720"/>
            <a:ext cx="105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Michael H. Ali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8200" y="6037200"/>
            <a:ext cx="727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ush Script MT"/>
              </a:rPr>
              <a:t>J.T. Fiel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8600" y="6434280"/>
            <a:ext cx="889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K                                                                                                         4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8800" y="216000"/>
            <a:ext cx="85557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 A111 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 2100                                                                    FUND CONTROL RECORD                                                      UNIT/ACTIVITY   54TH MECH 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78480" y="1892160"/>
            <a:ext cx="8737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                 1 OCT        FAD                     25,000.00                                     25,000.00                                                                                    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160" y="2151000"/>
            <a:ext cx="8543520" cy="19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        4 OCT        SMI2345 TT                            4,140.00                   20,860.00                                                                                      10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             4 OCT        WAL0123TT                            5,500.00                   15,36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                   4 OCT        BAR3456TT                            1,725.00                    13,635.00                                                                                      10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OCT        BER0123TT                            1,725.00                    11,910.00                                                                                      10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OCT        BEN1927TT                            1,475.00                    10,435.00                                                                                      10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8600" y="6434280"/>
            <a:ext cx="889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K                                                                                                        18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8800" y="216000"/>
            <a:ext cx="85557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 A111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 2300                                                                    FUND CONTROL RECORD                                                      UNIT/ACTIVITY   54TH MECH 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520" y="1816200"/>
            <a:ext cx="866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          1 OCT        FAD                  500,000.00                                  500,000.00                                                                                        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8600" y="6434280"/>
            <a:ext cx="889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1415 AK                                                                                                        19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8800" y="216000"/>
            <a:ext cx="85557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 A111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 2500                                                                    FUND CONTROL RECORD                                                      UNIT/ACTIVITY   54TH MECH 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7760" y="1892160"/>
            <a:ext cx="85467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         1 OCT        FAD                  65,000.00                                    65,000.00                                                                                         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5 OCT        PRC 1003                                5,490.00               59,510.00                                                                                          ** C 159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     5 OCT    W54FTATT4002                          6,600.00               52,910.00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8600" y="6434280"/>
            <a:ext cx="886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K                                                                                                       20                                                                                                           Sep 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1680" y="216000"/>
            <a:ext cx="851328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 A321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 2300                                                                    FUND CONTROL RECORD                                                      UNIT/ACTIVITY   54TH MED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1080" y="1892160"/>
            <a:ext cx="85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         1 OCT           FAD              200,000.00                                   200,000.00                                                                                         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8600" y="6434280"/>
            <a:ext cx="8825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K                                                                                                     21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1680" y="216000"/>
            <a:ext cx="851328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 A321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 2500                                                                    FUND CONTROL RECORD                                                      UNIT/ACTIVITY   54TH MED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5120" y="1892160"/>
            <a:ext cx="87220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         1 OCT           FAD                50,000.00                                       50,000.00                                                                                     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5 OCT           PRC 1001                             1,450.00                  48,550.00                                                                                        ** D 158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8600" y="6434280"/>
            <a:ext cx="8825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K                                                                                                       22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91680" y="216000"/>
            <a:ext cx="851328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  A321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  2600                                                                   FUND CONTROL RECORD                                                      UNIT/ACTIVITY   54TH MED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1440" y="1892160"/>
            <a:ext cx="845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            1 OCT           FAD               10,000.00                                    10,000.00                                                                                         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8600" y="6434280"/>
            <a:ext cx="8825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K                                                                                                       23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7T10:25:24Z</dcterms:created>
  <dc:creator>Soldier Support Institute</dc:creator>
  <dc:description/>
  <dc:language>en-US</dc:language>
  <cp:lastModifiedBy>Administrator</cp:lastModifiedBy>
  <cp:lastPrinted>2000-05-22T15:39:20Z</cp:lastPrinted>
  <dcterms:modified xsi:type="dcterms:W3CDTF">2004-09-16T14:27:58Z</dcterms:modified>
  <cp:revision>19</cp:revision>
  <dc:subject/>
  <dc:title>PE COVER SHE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652417</vt:r8>
  </property>
  <property fmtid="{D5CDD505-2E9C-101B-9397-08002B2CF9AE}" pid="3" name="_AuthorEmail">
    <vt:lpwstr>sandra.charity@us.army.mil</vt:lpwstr>
  </property>
  <property fmtid="{D5CDD505-2E9C-101B-9397-08002B2CF9AE}" pid="4" name="_AuthorEmailDisplayName">
    <vt:lpwstr>Charity, Sandra M SFC</vt:lpwstr>
  </property>
  <property fmtid="{D5CDD505-2E9C-101B-9397-08002B2CF9AE}" pid="5" name="_EmailSubject">
    <vt:lpwstr>PS 1415 Answer Key</vt:lpwstr>
  </property>
  <property fmtid="{D5CDD505-2E9C-101B-9397-08002B2CF9AE}" pid="6" name="_ReviewingToolsShownOnce">
    <vt:lpwstr/>
  </property>
</Properties>
</file>